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96C5-B1D9-4746-9689-6DDEC8886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urtney) Discuss example from last year before teachers had the training. Point out student friendly terms.  MAJOR EMPHASIS: teachers must make the posted scale for young or special needs students understandable--pictures, colors, symbo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7F02-6D60-479C-8FBC-B17AED8275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D2C-9785-42B8-B6B8-AF0046FB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E83-7256-4277-9F5F-CFE1B5BA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CDA7-A582-447A-B0C1-7BABD92E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EC9-5387-47A5-8759-6312F064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D9AE-DC61-42A7-8A5A-6B06D6AE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ADDA-F27A-4FF9-BF29-EF363225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6315-8252-4F27-988F-ACE525F7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A87C-0474-46F6-947B-FB3DB6CE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A78F-49F6-4B2C-A406-173963D0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3A9D-80D5-4DAC-9657-2607DCE6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1DBC-7A25-499D-B71A-EFE38E76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72E-291C-4DFE-B848-BAFC8927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5DC9-FCE9-4CFE-B9F4-06195DA5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505F-882A-46C5-8D3A-B34037F8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5050-A7AC-445D-9AE1-476B4B44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D4D1-0BC8-4BC4-8C8B-BA4ED8D7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4E54-4A6F-40FE-8824-E41BAF89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9C2-7BA2-4F69-89BD-33CE6F8E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ADF-2F62-4C3A-920E-D4F3E0B7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CF1-08C7-4ABF-B558-B99CFDD6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558-0D4F-4984-8E22-46508470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702F-302D-4090-AFD4-C686C810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1DB-CD0D-4B6D-97EC-3CF652EA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C2C-611A-469E-9BDD-DBC96E38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11A3-6F31-4483-8F66-9726B92FAA9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0E9F-AC3C-4E90-BD2B-17BE8EF585F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arning Continuum Sca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cale is an attempt to create a continuum that delineates distinct levels of knowledge and skill relative to a specific topic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can be thought of as an applied version of a learning progression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well-written scale should make it easy for teachers to design and score assessment tasks that can be used to generate both formative and summative score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19304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3" marL="11930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. Robert Marz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 that deals with level of thinking required of the stud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objectives in the schools                                tend to come from the cognitive                             domai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gnitive domains most referred t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m’s Taxonomy of Educational Objectives; six hierarchical level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erson and Krathwohl’s Taxono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sion of Bloom’s Taxono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ips the last two levels of Bloom’s Taxono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34936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32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w Model:  Anderson and Krathwohl’s Taxonomy (20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similar to Bloom’s Taxonomy, except for switching of the two highest levels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erson and Krathwohl’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m’s Taxonomy                          Taxono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3" descr="Two cognitive domains.png"/>
          <p:cNvPicPr/>
          <p:nvPr/>
        </p:nvPicPr>
        <p:blipFill>
          <a:blip r:embed="rId1"/>
          <a:stretch/>
        </p:blipFill>
        <p:spPr>
          <a:xfrm>
            <a:off x="914400" y="3276720"/>
            <a:ext cx="7543800" cy="320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:  requires students to memorize and recall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ehension:  requires students to demonstrate some level of under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:  requires students to use previously acquired information in a setting other than that in which it was learned.  Students are required to transfer their skills to another setting/situ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sis:  requires students to draw relationships among ideas or to compare/contrast; break down inform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s:  requires students to draw from what he/she has learned and produce something unique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ghest level in Anderson and Krathwohl’s mod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ion:  requires students to form judgments about the value or worth of something and to substantiate his/her judgment.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ext to the highest level in Anderson and Krathwohl’s model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Content Placeholder 5" descr="SCALES - Writing Objectives in the Cognitive Domain.png"/>
          <p:cNvPicPr/>
          <p:nvPr/>
        </p:nvPicPr>
        <p:blipFill>
          <a:blip r:embed="rId1"/>
          <a:srcRect l="-2995" t="0" r="-2995" b="0"/>
          <a:stretch/>
        </p:blipFill>
        <p:spPr>
          <a:xfrm>
            <a:off x="-266760" y="685800"/>
            <a:ext cx="963936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20120405_102637 (1).jpg"/>
          <p:cNvPicPr/>
          <p:nvPr/>
        </p:nvPicPr>
        <p:blipFill>
          <a:blip r:embed="rId1"/>
          <a:stretch/>
        </p:blipFill>
        <p:spPr>
          <a:xfrm>
            <a:off x="2054160" y="28440"/>
            <a:ext cx="5203800" cy="68295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-457200" y="56386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Courtesy: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Hamilton Elementar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Franklin Gothic Book"/>
              </a:rPr>
              <a:t>st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 Grade Tea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Object 63"/>
          <p:cNvGraphicFramePr/>
          <p:nvPr/>
        </p:nvGraphicFramePr>
        <p:xfrm>
          <a:off x="7696080" y="6019920"/>
          <a:ext cx="414360" cy="591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Object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6019920"/>
                    <a:ext cx="4143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Box 8"/>
          <p:cNvSpPr/>
          <p:nvPr/>
        </p:nvSpPr>
        <p:spPr>
          <a:xfrm>
            <a:off x="5943600" y="661176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lbertus Medium"/>
              </a:rPr>
              <a:t>Instructional Excellence &amp; Equit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10" descr="photo"/>
          <p:cNvPicPr/>
          <p:nvPr/>
        </p:nvPicPr>
        <p:blipFill>
          <a:blip r:embed="rId1"/>
          <a:srcRect l="0" t="10523" r="0" b="10523"/>
          <a:stretch/>
        </p:blipFill>
        <p:spPr>
          <a:xfrm>
            <a:off x="1752480" y="123840"/>
            <a:ext cx="6324840" cy="665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9" name="Content Placeholder 5" descr="SCALES - Writing Objectives in the Cognitive Domain.png"/>
          <p:cNvPicPr/>
          <p:nvPr/>
        </p:nvPicPr>
        <p:blipFill>
          <a:blip r:embed="rId1"/>
          <a:srcRect l="-2995" t="0" r="-2995" b="0"/>
          <a:stretch/>
        </p:blipFill>
        <p:spPr>
          <a:xfrm>
            <a:off x="-266760" y="685800"/>
            <a:ext cx="963936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omains of Learning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lesson plan must include goals/objectives, or statements indicating what students should be able to do at the end of a period of instru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objective falls within at least one of three domains (or categories) of learn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reflecting underlying emotions, feelings, or values rather than level of think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music student will appreciate music from the Baroque perio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3505320" y="4876920"/>
            <a:ext cx="2361960" cy="157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Hierarchical Levels of the 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iving (Atten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zation by a value or value complex:  One behaves in a manner consistent with one’s value system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in this domain deal with move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dance student will perform all 5 basic positions of ballet with 100% accuracy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9209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 Hierarch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ing – gross motor contr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ipulating – fine motor coord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cating – communication of ideas and feel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ng – represents the student’s coordination of thinking, learning, and behaving in all three dom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3-09-03T11:08:52Z</cp:lastPrinted>
  <dcterms:modified xsi:type="dcterms:W3CDTF">2013-09-04T18:15:42Z</dcterms:modified>
  <cp:revision>254</cp:revision>
  <dc:subject/>
  <dc:title>Slide 1</dc:title>
</cp:coreProperties>
</file>